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525-181D-45AE-B2F0-9A33841C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B19-8495-41C4-8A46-3AB65348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980-CA64-4DFC-B6A5-0A96619D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7C24-5D34-4770-8A77-404313C8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61C-7747-4BCD-A5A6-F5C2D3DA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2C53-5387-46E3-8D59-A786C541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E6A-9CC7-498D-90B6-E88ECE9B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571-6D32-4A7B-B033-E99AD4E5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B1BE-E8FC-4648-9C31-0C3EFA7F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80B7-52EC-4455-857D-510EBF8A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FD6E-3098-47D2-9B38-7D18F7ED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AAB-7C45-4514-85BC-ADB96FBE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C2EB-3EA0-423D-BC13-DE11BEC4CD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762120"/>
            <a:ext cx="8076960" cy="58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 u="sng">
                <a:solidFill>
                  <a:srgbClr val="ffffff"/>
                </a:solidFill>
                <a:uFillTx/>
                <a:latin typeface="Arial monospaced for SAP"/>
                <a:ea typeface="Times New Roman"/>
              </a:rPr>
              <a:t>Son to his Father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- “Dad, a Ferrari, is that a red car with a horse 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- “Yes my Son, why 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monospaced for SAP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“</a:t>
            </a: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I think a Ferrari is just about to overtake us on our right side” ...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monospaced for SAP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errari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errari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9:55:57Z</dcterms:created>
  <dc:creator>Francoj</dc:creator>
  <dc:description/>
  <dc:language>en-US</dc:language>
  <cp:lastModifiedBy>Ron Maitland</cp:lastModifiedBy>
  <dcterms:modified xsi:type="dcterms:W3CDTF">2004-05-29T11:42:50Z</dcterms:modified>
  <cp:revision>9</cp:revision>
  <dc:subject/>
  <dc:title>Apresentação do PowerPoint</dc:title>
</cp:coreProperties>
</file>