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238-4435-45E9-9493-29075FAB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759-2B68-447D-AF0F-92EE7FB8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756-B088-400D-A6C8-DAB90D13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DA7-3F88-4066-9E5D-7EB5DB49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0488-6D3F-418A-8E12-086E652D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26D-4576-4CD5-9FCD-BBDC8AA4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BC92-15B4-49CA-B6EC-874D09E1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E46-7E84-4266-8226-14CB89D4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AF4C-FDFC-4AC6-A4D0-FD8ED439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B47-B573-4076-99B3-FB87D10E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135-F903-4B91-94BE-C6654FED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C52-6EA0-4E80-B711-D00B9DE3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F936-0468-42E2-85BF-17F6AA66E1F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762120"/>
            <a:ext cx="8076960" cy="58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 u="sng">
                <a:solidFill>
                  <a:srgbClr val="ffffff"/>
                </a:solidFill>
                <a:uFillTx/>
                <a:latin typeface="Arial monospaced for SAP"/>
                <a:ea typeface="Times New Roman"/>
              </a:rPr>
              <a:t>Son to his Father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- “Dad, a Ferrari, is that a red car with a horse 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- “Yes my Son, why 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monospaced for SAP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“</a:t>
            </a: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I think a Ferrari is just about to overtake us on our right side” ..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monospaced for SAP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errari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errari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9:55:57Z</dcterms:created>
  <dc:creator>Francoj</dc:creator>
  <dc:description/>
  <dc:language>en-US</dc:language>
  <cp:lastModifiedBy>Ron Maitland</cp:lastModifiedBy>
  <dcterms:modified xsi:type="dcterms:W3CDTF">2004-05-29T11:42:50Z</dcterms:modified>
  <cp:revision>9</cp:revision>
  <dc:subject/>
  <dc:title>Apresentação do PowerPoint</dc:title>
</cp:coreProperties>
</file>