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9B00-7906-43F0-92B8-A1C8B043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090-52A8-466C-9913-F9CAEB2D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81C-DB82-45FE-BEBD-86407A4F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A61D-FD16-4C0A-AFFC-54466F69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41F2-9BB4-4BD3-8CCD-E55E5E7C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A716-531F-4A27-A44A-12B3C1B3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2137-FD60-4AB4-9E74-2671B240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B433-E27C-4C87-9DC3-A8C88F7A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F98B-AEF7-43CF-B811-B6D6B2E2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C9FC-7B7C-4FDF-8D89-1E3579A1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ABAB-30F4-4E1A-A89F-77BE2CFA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3450-E15B-4A69-8704-FDCA4B09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8D14-ADD4-4C22-A147-AE4D45CD8BF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762120"/>
            <a:ext cx="8076960" cy="58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 u="sng">
                <a:solidFill>
                  <a:srgbClr val="ffffff"/>
                </a:solidFill>
                <a:uFillTx/>
                <a:latin typeface="Arial monospaced for SAP"/>
                <a:ea typeface="Times New Roman"/>
              </a:rPr>
              <a:t>Son to his Father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- “Dad, a Ferrari, is that a red car with a horse 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- “Yes my Son, why ?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monospaced for SAP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“</a:t>
            </a:r>
            <a:r>
              <a:rPr b="0" lang="pt-BR" sz="3000" spc="-1" strike="noStrike">
                <a:solidFill>
                  <a:srgbClr val="ffffff"/>
                </a:solidFill>
                <a:latin typeface="Arial monospaced for SAP"/>
                <a:ea typeface="Times New Roman"/>
              </a:rPr>
              <a:t>I think a Ferrari is just about to overtake us on our right side” ...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monospaced for SAP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ferrari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ferrari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2T19:55:57Z</dcterms:created>
  <dc:creator>Francoj</dc:creator>
  <dc:description/>
  <dc:language>en-US</dc:language>
  <cp:lastModifiedBy>Ron Maitland</cp:lastModifiedBy>
  <dcterms:modified xsi:type="dcterms:W3CDTF">2004-05-29T11:42:50Z</dcterms:modified>
  <cp:revision>9</cp:revision>
  <dc:subject/>
  <dc:title>Apresentação do PowerPoint</dc:title>
</cp:coreProperties>
</file>