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FE5-E44C-46ED-8D64-5E793B5A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BE7-9E01-43CD-AC2D-A91021C7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5B0-9089-4E71-A1D2-C0C24358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697-24B3-4BB4-BB6C-464AEB02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302-0F4E-4754-AB3A-50575109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5EF-E4FE-49BB-BF44-FAC24620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6C8-CF9B-4ED5-96E6-FC4A69DB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986-485E-4BE9-BB9B-D2CD22E2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554-1C8E-48C8-85EB-98F6BCA7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D86-8C48-4553-B898-BD3CE5B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F87-707E-4872-96CF-45A203F5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403-02CE-4DAD-BD35-43FB5743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8E70-E110-44BB-89D6-2F0D5655F2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807696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ff"/>
                </a:solidFill>
                <a:uFillTx/>
                <a:latin typeface="Arial monospaced for SAP"/>
                <a:ea typeface="Times New Roman"/>
              </a:rPr>
              <a:t>Son to his Father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Dad, a Ferrari, is that a red car with a horse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Yes my Son, why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I think a Ferrari is just about to overtake us on our right side” ..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errari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errari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Francoj</dc:creator>
  <dc:description/>
  <dc:language>en-US</dc:language>
  <cp:lastModifiedBy>Ron Maitland</cp:lastModifiedBy>
  <dcterms:modified xsi:type="dcterms:W3CDTF">2004-05-29T11:42:50Z</dcterms:modified>
  <cp:revision>9</cp:revision>
  <dc:subject/>
  <dc:title>Apresentação do PowerPoint</dc:title>
</cp:coreProperties>
</file>