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423-5061-4313-8610-DA876B50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814-A9FF-4301-B9C8-DD0F329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22C-5448-41A9-937F-022CAE42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6F9-5077-49D8-9706-FF91FB28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E9D-8CF9-4B4E-BBAB-20F07EF9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8D0-790D-454A-97CC-CA7EA5AF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68F-E546-4A68-BDD1-1E14FB6F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485-6291-4BDB-9CF3-418B1C2F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403-241C-49B8-BFF5-B6E85700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F13-2C03-47DD-AD1B-822C1C0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E8B-BD60-4383-B332-9AC7DAA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A2B-201D-46D5-9CB1-7E5FB526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5C8F-0EB8-42BB-BE2B-4AE689002D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807696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ff"/>
                </a:solidFill>
                <a:uFillTx/>
                <a:latin typeface="Arial monospaced for SAP"/>
                <a:ea typeface="Times New Roman"/>
              </a:rPr>
              <a:t>Son to his Father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Dad, a Ferrari, is that a red car with a horse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Yes my Son, why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I think a Ferrari is just about to overtake us on our right side” ..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errari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errari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Francoj</dc:creator>
  <dc:description/>
  <dc:language>en-US</dc:language>
  <cp:lastModifiedBy>Ron Maitland</cp:lastModifiedBy>
  <dcterms:modified xsi:type="dcterms:W3CDTF">2004-05-29T11:42:50Z</dcterms:modified>
  <cp:revision>9</cp:revision>
  <dc:subject/>
  <dc:title>Apresentação do PowerPoint</dc:title>
</cp:coreProperties>
</file>